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Num" idx="40"/>
          </p:nvPr>
        </p:nvSpPr>
        <p:spPr>
          <a:xfrm>
            <a:off x="6469200" y="9495720"/>
            <a:ext cx="2556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A6E8FB-34D6-4E32-97AB-91F0E83F5916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Img"/>
          </p:nvPr>
        </p:nvSpPr>
        <p:spPr>
          <a:xfrm>
            <a:off x="-1741680" y="318600"/>
            <a:ext cx="11171160" cy="8379000"/>
          </a:xfrm>
          <a:prstGeom prst="rect">
            <a:avLst/>
          </a:prstGeom>
          <a:noFill/>
          <a:ln w="38160">
            <a:solidFill>
              <a:srgbClr val="00000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body"/>
          </p:nvPr>
        </p:nvSpPr>
        <p:spPr>
          <a:xfrm>
            <a:off x="56880" y="271440"/>
            <a:ext cx="8492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56880" y="9343440"/>
            <a:ext cx="57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aua_vorlagen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tel/Logo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D-Fa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6880" y="271440"/>
            <a:ext cx="849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tzte S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996-3596-4E10-A135-E1E5DC52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9A7-59FB-4633-AEA1-3DB20A8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E4C30-71CC-4A85-9CB0-09F8659C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5D8A6-7687-43AC-AC5A-05AD10D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8EF65-4983-4EB9-A40B-8B94C05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69994-9867-4299-9259-7E1EE980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EF417-F620-408A-9C21-F24D4D67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36175-611B-44A6-AD42-843EB474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7E23E-5229-4F91-A97D-C0D14E34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6B730-E058-49BA-BB0E-4EC27704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D23FF-E655-49D7-BD49-4BC21A6E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4E26A-E106-43F8-9022-ACB37A7F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800-421D-4AFF-916F-24393AE6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41855-18F8-4FE1-9A0F-BE72DC24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71FF1-3598-4630-B3AA-3CD97AA4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59623-DCB9-43E8-BB2B-50CF1486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BE337-EDC0-4DE8-B026-96CF6C33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2687E-7C64-410D-A503-D0BFD5A6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F68E0-8488-4845-B2AC-C9CD18A3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6D58A-CC33-4401-AA78-570E4BE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1F458-C47E-41B5-AE8E-2EFD8C35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17914-7703-49A7-AAC7-05178453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F95AE-2F73-411C-9102-8391D972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55C-1F51-4177-90DF-7A0A5F62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E102C-ED2E-4274-8B90-3D1123D5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9394C-0777-4C95-8441-2FD3A7B7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0BB7-E78C-4533-B991-844089C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1DDC5-C1B1-4367-B8AF-2C98FF8E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A9A3B-3688-4CFE-B462-56568B78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FF7B9-6343-4374-A094-2E917A5C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0E581-4DAB-4B89-8603-5D4E85FF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5933B-DC47-478E-BDC9-809CD69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4CD80-BCE1-4DFA-AE12-C822ABA5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395A7-4755-4256-8A13-FCA241ED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E840-E57B-4BFA-9F12-296E758D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5D7E9-2C79-43EA-808A-6A12B91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C0AFC-8C8E-473F-A7D0-7BCFA94C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6FC09-9FBE-4A52-9521-F6BF7620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4722B-E421-4E25-85C1-BAB9D7AA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8EDFD-3A7A-4DCC-9AEB-EC7A6BC1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EDD9B-870D-4740-AEFE-A9F15849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4FDE8-CBF5-430C-B930-2E492229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58887-55CA-4646-9942-78B48832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85035-127E-4780-B8D2-4AFCC5E6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5E27F-76CF-4E76-A350-3F0BB60C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46F2-5153-46A2-9F02-ADEA2108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383D2-6B36-411B-949E-FCAB5C7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0768D-599C-4365-8CF9-FEB95AD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41540-4876-4FB9-BF39-AAE9B46E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59CE6-D565-46E3-ADC3-47373E3B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DC36C-F0D9-47ED-955F-90165B81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AF7E5-3190-43DD-99D1-1B7CECC1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74F5A-617B-40E9-B982-19C4A8C9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D8A6D-D9E9-4577-B0C7-68B9E798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58C4C-C2E1-4360-966B-51C41FAF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BD6B1-90CB-4956-80B3-31396E95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C333-9592-4D71-BDAF-73F6946D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D3AEF-1464-4544-9ADC-19D318A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2F927-FE82-40EE-9BAB-78B43A12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518D8-FB5A-4B6A-92B3-BFFD992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DB9DD-17D0-4C3D-AC04-40B938C3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61885-AAAE-4282-9083-85578E3F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97850-C452-4246-9BD3-70436500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513D4-4B13-41B8-BA18-1EBCAF03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888F-F5AB-40C2-A2D6-E696CED7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3B92-306D-4D79-8B29-D7652F04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AB97-79D0-4E90-A3EF-DC8AF757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1700-3D47-4DDA-A77E-57AD6746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97C-5494-423E-8AEF-6F05040F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EBD6-1962-4AB4-8AED-26DD4F5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BB61-8543-4FC2-9E4D-6B3F0175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2460-DD7D-402B-A06E-D1138C9C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4AE7-1B2B-458F-9A42-F6C9AB74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25AA-1931-4125-8C51-E5FFFBE8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BFF0-A064-484A-8BA8-53B8834E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4ADCF-E4E2-441D-97DE-41984D97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C486-D713-490A-B133-BAEBE746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F974-595A-40D7-860A-6388CD50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A68D-FC19-4A4D-8DDD-CE8769F2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FAC-E94E-44FB-816B-2E4ADC0E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797F-B877-4749-AF00-1163EF4E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71419-A310-48C6-B014-840B9685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86D8-2E5D-4EA9-BE15-4C345DE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95FE-E320-4446-B563-D01EEFE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FD4C-30C3-402E-ADED-AC7B63F1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8AB11-D504-4DE0-89DA-6FBAFDA3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EB9C-60F5-4EC4-90ED-1B4BA304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A5CF-6644-4B7D-A99E-F81EACCD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3313-4582-40A4-A204-DD0E10B6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B6DD-0C7D-433F-8E64-A22E3475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DD4-320E-41DA-B864-B44B9FD6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8957-B2D3-40A7-9EEA-8E4452A9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4D2A-E894-4130-B11B-FE4DAFAE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C26A-3D6E-4B40-8EEA-46E61F98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7C8B0-97BD-4482-8A1A-922C7AE3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ABEB-A115-4866-ACE9-E479C38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19B1-B6F5-448B-907E-EFF8F22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902E-CB2A-4B4C-826F-C50A0276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E8D1-7156-4FB0-BCD8-2004584D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B4E1-46C6-4D38-82D3-99A0B389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9304D-A611-4E59-96CC-3BEE2241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4C9-B1AF-4122-BD7A-05869481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F183-CBEE-432A-8591-84DB6EB7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C50AA-39FE-4C9A-8BA6-14642756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4114-B162-4672-8929-1826A05F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37C4-58F7-4E89-8593-1AA55880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FE82-FB2A-4A90-86BF-2D3B8E74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F74EB-7EE2-4A0A-864E-1B3E61C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4A1E-CA33-4B76-9A11-7E4606E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E2567-2B5A-4F29-B24F-896886C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B5527-5094-4CDC-BB2B-403E54C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994DB-7BCA-4986-AB77-C6A1E477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7F4-9627-40E6-ADB1-2677CFC5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E135-4577-438F-BE74-AAF358A7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9D61F-C765-43C9-9CDD-1709E7E3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2766-86D9-4C16-997C-25DA4112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4089B-E0FC-472C-B9D8-F88B839D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435F-03D1-4861-8005-D3196B0C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C9CCB-9CC9-4344-8E5C-4A9B67C5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0CF05-AC3B-4A22-B99B-F5143411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066E-5E40-4061-B0E9-C0E9AF15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3905-163C-4705-935E-3184AD1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69004-D07F-455E-B3EE-3416C174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4F8-E4A4-4D63-AE99-872F044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4425-0B4E-413A-AD37-CE92F5B9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297D8-765A-414A-8230-10ADF58F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0CABA-215C-427D-A8D1-02B7994A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45DD7-B09E-4F04-A66A-E5469C4A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3102E-BF45-430F-AF0F-CE70814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885A6-66F0-4189-BDED-66DB073E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A6E0-4620-4D0A-9CDB-1DFF0B94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8A7D-524A-4E78-9A57-05EA7676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2E238-E308-4789-9FD2-8B4E8B86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1BF66-6BA3-431A-8B91-EE83C91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269-1DA4-489D-B458-47739C58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D8FF1-603D-4FE0-AA61-7C3359F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0A393-48D2-438E-8648-69D6046B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F2956-EE2E-4F41-9D46-DE1B99F2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62FCC-9B9B-43F8-922B-82D14B3A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4E6B9-E725-490D-874B-E6048BFF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8FCEC-9069-4612-AD31-8244F2B7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0DC8F-DA90-4DA4-8457-9AA6AF03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AF6BB-AA28-4065-A0C3-9AC31F40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5FF74-574E-47F9-B487-79C1C6D6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A3E7A-910D-499F-89CE-346A7F3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D59-3E32-4E52-8BEE-7C28B509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EA59F-C862-4E93-B5CD-B5E03114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2D30-B894-43D9-BBBB-575C146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E6D1-F2CA-4A55-96EC-B2810703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F0724-C652-4931-AE58-89B30496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2CB24-4321-433F-9A1B-9C0A3605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35DAB-A505-41B8-B9CD-537269DB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29FA2-F0D9-4E35-8852-922C3FF9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0610C-54A6-4E20-8ED5-7C3DA249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7B50E-F92C-49E4-BCC2-840A6908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6E1C8-37D2-4757-9B7B-EE0C447E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D624-F035-4408-9056-4D130AF208ED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7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0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3E5E-8A2A-40FF-8D67-882E1D68DB9E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5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08C3-067B-4558-A43A-FC905CFD1EAB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9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A631-C105-43C3-8370-FF24D5EB8AE4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54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D52C-ABAA-44FF-BC3C-9E267F7B034C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6"/>
          <p:cNvSpPr/>
          <p:nvPr/>
        </p:nvSpPr>
        <p:spPr>
          <a:xfrm>
            <a:off x="0" y="417600"/>
            <a:ext cx="9144000" cy="34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8" name="Picture 19" descr="logo_baua_Title"/>
          <p:cNvPicPr/>
          <p:nvPr/>
        </p:nvPicPr>
        <p:blipFill>
          <a:blip r:embed="rId2">
            <a:lum contrast="6000"/>
          </a:blip>
          <a:srcRect l="4980" t="0" r="3991" b="0"/>
          <a:stretch/>
        </p:blipFill>
        <p:spPr>
          <a:xfrm>
            <a:off x="898560" y="585720"/>
            <a:ext cx="739296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 rot="16200000">
            <a:off x="-122760" y="5505840"/>
            <a:ext cx="717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899640" y="6426360"/>
            <a:ext cx="4211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193320" y="654768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FB82-299E-477A-BE3B-C30803BFC816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9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6BA7-21BE-4E9E-A81B-9825169EBDC1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3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E71-EA94-4A7C-87BE-7D308AA70CB4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8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4A7A-4712-435F-9962-6A2D952BB338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2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A5CD-62E7-4C30-A665-8C5D4BD8FD14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7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BD8A-2A04-48FB-8F93-BACA3D36EAF2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31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F3A7-B3E2-470A-AB0E-8050759FB139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36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CD16-5288-4547-9968-9F3E8595EC5C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AutoShape 6"/>
          <p:cNvSpPr/>
          <p:nvPr/>
        </p:nvSpPr>
        <p:spPr>
          <a:xfrm>
            <a:off x="406440" y="3097080"/>
            <a:ext cx="8307360" cy="3022560"/>
          </a:xfrm>
          <a:prstGeom prst="roundRect">
            <a:avLst>
              <a:gd name="adj" fmla="val 7065"/>
            </a:avLst>
          </a:prstGeom>
          <a:solidFill>
            <a:srgbClr val="587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ffffff"/>
                </a:solidFill>
                <a:latin typeface="Arial"/>
              </a:rPr>
              <a:t>National and EU Activities</a:t>
            </a:r>
            <a:endParaRPr b="0" lang="en-US" sz="4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ffffff"/>
                </a:solidFill>
                <a:latin typeface="Arial"/>
              </a:rPr>
              <a:t>on the Inspection of Chemicals</a:t>
            </a:r>
            <a:endParaRPr b="0" lang="en-US" sz="4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atja vom Hofe, BAuA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209520" y="6392880"/>
            <a:ext cx="7209000" cy="341280"/>
          </a:xfrm>
          <a:prstGeom prst="roundRect">
            <a:avLst>
              <a:gd name="adj" fmla="val 7065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isit of the Ministry of Environment of Brazil – 10 April 2013 – BAuA, 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6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AB7-E2DC-44C8-9FE1-DB33366FF417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87240" y="1643040"/>
            <a:ext cx="8067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Re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triggered by information received from / through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 rot="21154200">
            <a:off x="1125360" y="326232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market surveillance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425680" y="430992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other inspection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1" name="Text Box 21"/>
          <p:cNvSpPr/>
          <p:nvPr/>
        </p:nvSpPr>
        <p:spPr>
          <a:xfrm rot="21157800">
            <a:off x="1173240" y="546588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2" name="Text Box 23"/>
          <p:cNvSpPr/>
          <p:nvPr/>
        </p:nvSpPr>
        <p:spPr>
          <a:xfrm rot="475200">
            <a:off x="6032160" y="465948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accid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3" name="Text Box 24"/>
          <p:cNvSpPr/>
          <p:nvPr/>
        </p:nvSpPr>
        <p:spPr>
          <a:xfrm rot="591600">
            <a:off x="5196960" y="329580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4911840" y="551016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incid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5" name="Oval 26"/>
          <p:cNvSpPr/>
          <p:nvPr/>
        </p:nvSpPr>
        <p:spPr>
          <a:xfrm rot="21150000">
            <a:off x="809640" y="303516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6" name="Oval 27"/>
          <p:cNvSpPr/>
          <p:nvPr/>
        </p:nvSpPr>
        <p:spPr>
          <a:xfrm rot="618000">
            <a:off x="4820760" y="305388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7" name="Oval 28"/>
          <p:cNvSpPr/>
          <p:nvPr/>
        </p:nvSpPr>
        <p:spPr>
          <a:xfrm rot="487800">
            <a:off x="5648400" y="443232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8" name="Oval 29"/>
          <p:cNvSpPr/>
          <p:nvPr/>
        </p:nvSpPr>
        <p:spPr>
          <a:xfrm rot="21150000">
            <a:off x="816120" y="521496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1719360" y="4130640"/>
            <a:ext cx="3208320" cy="85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0" name="Oval 31"/>
          <p:cNvSpPr/>
          <p:nvPr/>
        </p:nvSpPr>
        <p:spPr>
          <a:xfrm>
            <a:off x="1951200" y="4048200"/>
            <a:ext cx="3208320" cy="85068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1" name="Oval 32"/>
          <p:cNvSpPr/>
          <p:nvPr/>
        </p:nvSpPr>
        <p:spPr>
          <a:xfrm>
            <a:off x="4500720" y="5261040"/>
            <a:ext cx="3208320" cy="85068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3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B4D-88E3-46E4-A51C-387FF3B8A2D7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84280" y="1743120"/>
            <a:ext cx="7597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Tools of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formation and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guidance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for dutyholde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dministrative interven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mpanies are often willing to collaborate with 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forcement author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mmon goal: registrants’ compliance !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 cases of non-compliance: administrative order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880" y="454320"/>
            <a:ext cx="80748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290" descr=""/>
          <p:cNvPicPr/>
          <p:nvPr/>
        </p:nvPicPr>
        <p:blipFill>
          <a:blip r:embed="rId1"/>
          <a:srcRect l="0" t="0" r="5039" b="0"/>
          <a:stretch/>
        </p:blipFill>
        <p:spPr>
          <a:xfrm rot="1156800">
            <a:off x="7768800" y="2452680"/>
            <a:ext cx="882720" cy="1006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91" descr=""/>
          <p:cNvPicPr/>
          <p:nvPr/>
        </p:nvPicPr>
        <p:blipFill>
          <a:blip r:embed="rId2"/>
          <a:srcRect l="0" t="0" r="5039" b="0"/>
          <a:stretch/>
        </p:blipFill>
        <p:spPr>
          <a:xfrm rot="874200">
            <a:off x="7515000" y="2487240"/>
            <a:ext cx="917280" cy="10256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92" descr="reach1"/>
          <p:cNvPicPr/>
          <p:nvPr/>
        </p:nvPicPr>
        <p:blipFill>
          <a:blip r:embed="rId3"/>
          <a:stretch/>
        </p:blipFill>
        <p:spPr>
          <a:xfrm>
            <a:off x="7253280" y="2549520"/>
            <a:ext cx="1058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97CA-424D-49B1-AA06-195CDF7D1C4A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566640" y="1701720"/>
            <a:ext cx="796284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German objectives for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mote the safe handling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sure environmental and human health standard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ducate dutyholders and provide guid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vide a level playing field on the EU marke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Need to be ensured at national </a:t>
            </a:r>
            <a:r>
              <a:rPr b="1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and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EU level !!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t national and EU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9"/>
          <p:cNvSpPr/>
          <p:nvPr/>
        </p:nvSpPr>
        <p:spPr>
          <a:xfrm rot="10800000">
            <a:off x="928440" y="5241600"/>
            <a:ext cx="377640" cy="228600"/>
          </a:xfrm>
          <a:prstGeom prst="leftArrow">
            <a:avLst>
              <a:gd name="adj1" fmla="val 50009"/>
              <a:gd name="adj2" fmla="val 58996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6,-58,32)"/>
                                      </p:to>
                                    </p:se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6,-58,32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5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E6C3-A52B-4502-9644-9C6D62A26616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723960" y="1504800"/>
            <a:ext cx="809604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Forum for Exchange of Information on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Composi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Body of the European Chemicals Agency, ECHA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ne member from each of the 27 EU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+ non-voting members from the European Commiss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Harmonization of enforce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 REACH, CLP and PIC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 the EU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he For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5829480" y="4805280"/>
            <a:ext cx="2701800" cy="1089000"/>
          </a:xfrm>
          <a:prstGeom prst="rect">
            <a:avLst/>
          </a:prstGeom>
          <a:ln w="12600">
            <a:solidFill>
              <a:srgbClr val="2e59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2C2E-4B98-40BF-A433-CA0EE954489C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596880" y="1676520"/>
            <a:ext cx="801540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Different legal systems in 27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Varying organizational structur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ompetencies within different authorities (MSCA / NEA*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National systems of sanctions / penal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219240" y="4957920"/>
            <a:ext cx="8451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Harmonized approach to enforce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= comparable enforcement, </a:t>
            </a:r>
            <a:r>
              <a:rPr b="1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not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uniform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ization of Enforcement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9"/>
          <p:cNvSpPr/>
          <p:nvPr/>
        </p:nvSpPr>
        <p:spPr>
          <a:xfrm>
            <a:off x="1697040" y="5094360"/>
            <a:ext cx="277920" cy="152280"/>
          </a:xfrm>
          <a:prstGeom prst="rightArrow">
            <a:avLst>
              <a:gd name="adj1" fmla="val 64963"/>
              <a:gd name="adj2" fmla="val 45846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75" name="Picture 12" descr=""/>
          <p:cNvPicPr/>
          <p:nvPr/>
        </p:nvPicPr>
        <p:blipFill>
          <a:blip r:embed="rId1"/>
          <a:stretch/>
        </p:blipFill>
        <p:spPr>
          <a:xfrm>
            <a:off x="6956280" y="1793880"/>
            <a:ext cx="1857600" cy="11811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7"/>
          <p:cNvSpPr/>
          <p:nvPr/>
        </p:nvSpPr>
        <p:spPr>
          <a:xfrm>
            <a:off x="3102120" y="3803760"/>
            <a:ext cx="544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*MSCA = Member State Competent Authority, NEA = National Enforcement Authority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8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A440-5E0F-4B8B-BFE6-9A0782662657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731880" y="1463760"/>
            <a:ext cx="80154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Practical solu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Development of best practice documen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Exchange of inspecto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Harmonized enforcement projec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Annual “Train-the-Trainers” even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Manual with “practical cases” and Forum conclus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ommon Information Exchange System (IT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ization of Enforcement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8" descr="EU_flags"/>
          <p:cNvPicPr/>
          <p:nvPr/>
        </p:nvPicPr>
        <p:blipFill>
          <a:blip r:embed="rId1"/>
          <a:srcRect l="0" t="52906" r="0" b="17276"/>
          <a:stretch/>
        </p:blipFill>
        <p:spPr>
          <a:xfrm>
            <a:off x="1193760" y="5218200"/>
            <a:ext cx="3583080" cy="7286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1" descr="Flag_of_Europe"/>
          <p:cNvPicPr/>
          <p:nvPr/>
        </p:nvPicPr>
        <p:blipFill>
          <a:blip r:embed="rId2"/>
          <a:stretch/>
        </p:blipFill>
        <p:spPr>
          <a:xfrm>
            <a:off x="6178680" y="5267160"/>
            <a:ext cx="1047600" cy="69876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12"/>
          <p:cNvSpPr/>
          <p:nvPr/>
        </p:nvSpPr>
        <p:spPr>
          <a:xfrm>
            <a:off x="5224320" y="5491080"/>
            <a:ext cx="406440" cy="217440"/>
          </a:xfrm>
          <a:prstGeom prst="rightArrow">
            <a:avLst>
              <a:gd name="adj1" fmla="val 50000"/>
              <a:gd name="adj2" fmla="val 46730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Espaço Reservado para Rodapé 3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5" name="Espaço Reservado para Número de Slide 4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DDCB-D782-4903-B07F-490973D23637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6" name="AutoShape 2"/>
          <p:cNvSpPr/>
          <p:nvPr/>
        </p:nvSpPr>
        <p:spPr>
          <a:xfrm>
            <a:off x="476280" y="371520"/>
            <a:ext cx="8292960" cy="2336760"/>
          </a:xfrm>
          <a:prstGeom prst="roundRect">
            <a:avLst>
              <a:gd name="adj" fmla="val 6181"/>
            </a:avLst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18040" y="1070640"/>
            <a:ext cx="8223840" cy="775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hank you for listening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3240000" y="2911320"/>
            <a:ext cx="5505480" cy="2536920"/>
          </a:xfrm>
          <a:prstGeom prst="roundRect">
            <a:avLst>
              <a:gd name="adj" fmla="val 6181"/>
            </a:avLst>
          </a:prstGeom>
          <a:noFill/>
          <a:ln w="3816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560760" y="3009960"/>
            <a:ext cx="503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2e59a6"/>
                </a:solidFill>
                <a:latin typeface="Arial"/>
              </a:rPr>
              <a:t>Katja vom Hof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ederal Institute for Occupational Safety and Health (BAuA)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ederal Office for Chemical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riedrich-Henkel-Weg 1-25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-44149 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hemG@baua.bund.d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urther Information:  </a:t>
            </a:r>
            <a:r>
              <a:rPr b="1" lang="de-DE" sz="1400" spc="-1" strike="noStrike">
                <a:solidFill>
                  <a:srgbClr val="2e59a6"/>
                </a:solidFill>
                <a:latin typeface="Arial"/>
              </a:rPr>
              <a:t>www.baua.d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4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6C2-2A62-450B-80CC-FEF8A32A7243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701640" y="1577880"/>
            <a:ext cx="771228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National Activities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Organizational Structur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National Strategies for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Enforcement Activities in German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International Activ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e Forum of the European Chemicals Agenc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Harmonization of Enforcement Activ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8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83B5-95EE-46E8-A620-978BABE6682E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17400" y="1519200"/>
            <a:ext cx="8096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16 Federal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responsible for th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 Chemicals Legisl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ccording to the German Chemicals Ac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independent with regard to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forcement structures, strategies and prior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different geographic, industrial and economic situa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-   Northrhine-Westphalia:  17,8 million inhabitants, focus: manufacture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-   Hamburg:  500.000 inhabitants, focus: impor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 rot="5400000">
            <a:off x="8064000" y="3394080"/>
            <a:ext cx="100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Map: NordNordWest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02" name="Picture 15" descr=""/>
          <p:cNvPicPr/>
          <p:nvPr/>
        </p:nvPicPr>
        <p:blipFill>
          <a:blip r:embed="rId1"/>
          <a:stretch/>
        </p:blipFill>
        <p:spPr>
          <a:xfrm>
            <a:off x="6719760" y="1606680"/>
            <a:ext cx="1776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4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1930-3C47-4497-9A05-2664769D897F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593280" y="1528560"/>
            <a:ext cx="78994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Tasks of the Federal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Organization of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nat’l enforcement authorities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(NEAs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at relevant levels (ministry / regional / district level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Provision of personal and financial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resourc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Education and training</a:t>
            </a: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of enforce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qualification of inspecto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Information and guidance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for dutyholders (optional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711360" y="560556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Cooperation and harmonization needed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1320840" y="5737320"/>
            <a:ext cx="326880" cy="217440"/>
          </a:xfrm>
          <a:prstGeom prst="rightArrow">
            <a:avLst>
              <a:gd name="adj1" fmla="val 50000"/>
              <a:gd name="adj2" fmla="val 37583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1E72-D8B6-4672-806B-B9AB19252624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712800" y="1465200"/>
            <a:ext cx="786600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Harmonization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Working Committee of the Federal Govern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nd the States on Chemical Safety  (BLAC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xchange of inform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ordination of joint projec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wareness raising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Development of a common enforcement strateg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rcRect l="0" t="0" r="6301" b="0"/>
          <a:stretch/>
        </p:blipFill>
        <p:spPr>
          <a:xfrm>
            <a:off x="6748560" y="3483000"/>
            <a:ext cx="13366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5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5DF-424F-4717-A568-DB15BC977999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 Strate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2720" y="1590840"/>
            <a:ext cx="799308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Strategy for the Market Surveillance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Developed and revised by BLAC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dditional strategies for each Federal State –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reflect the specific conditions in each stat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Framework strategies: leave room for additiona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spections triggered by up-to-date inform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Strategies are regularly revised and adapted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9240" y="5357880"/>
            <a:ext cx="326880" cy="217440"/>
          </a:xfrm>
          <a:prstGeom prst="rightArrow">
            <a:avLst>
              <a:gd name="adj1" fmla="val 50000"/>
              <a:gd name="adj2" fmla="val 37583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19" name="Picture 7" descr=""/>
          <p:cNvPicPr/>
          <p:nvPr/>
        </p:nvPicPr>
        <p:blipFill>
          <a:blip r:embed="rId1"/>
          <a:srcRect l="0" t="0" r="3151" b="0"/>
          <a:stretch/>
        </p:blipFill>
        <p:spPr>
          <a:xfrm>
            <a:off x="7394400" y="2305080"/>
            <a:ext cx="12589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1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844A-BE29-4086-9A79-E1D107CD7552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574560" y="1481040"/>
            <a:ext cx="796284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mote the safe 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handling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sure environmental and human health standard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ducate dutyholders and provide guid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vide a level playing field on the EU marke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 Strate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ormulator"/>
          <p:cNvPicPr/>
          <p:nvPr/>
        </p:nvPicPr>
        <p:blipFill>
          <a:blip r:embed="rId1"/>
          <a:srcRect l="0" t="6121" r="5968" b="3060"/>
          <a:stretch/>
        </p:blipFill>
        <p:spPr>
          <a:xfrm>
            <a:off x="4110120" y="1519200"/>
            <a:ext cx="4195800" cy="2633760"/>
          </a:xfrm>
          <a:prstGeom prst="rect">
            <a:avLst/>
          </a:prstGeom>
          <a:ln w="9360">
            <a:solidFill>
              <a:srgbClr val="2e59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6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032C-BCAB-482F-AF38-5FE24E61635C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704880" y="1693800"/>
            <a:ext cx="790740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spec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desktop studies + company visits, if necessar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ctive vs Re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enforcement authority actively </a:t>
            </a:r>
            <a:r>
              <a:rPr b="0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decides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to enfor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Reactive Enforcement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enforcement authority </a:t>
            </a:r>
            <a:r>
              <a:rPr b="0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reacts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to a certain situ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7B4A-BCBF-4A9C-8B97-005E637CBE79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619200" y="1701720"/>
            <a:ext cx="803592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spections  –  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based on risk-related market surveill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ten in the course of specific inspection projects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focus on specific substances and / or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duct-types (PAHs in tyres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dditionally: information / awareness-raising campaig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17" descr="Used_tyres_(2)_-_geograph"/>
          <p:cNvPicPr/>
          <p:nvPr/>
        </p:nvPicPr>
        <p:blipFill>
          <a:blip r:embed="rId1"/>
          <a:stretch/>
        </p:blipFill>
        <p:spPr>
          <a:xfrm>
            <a:off x="6278400" y="3684600"/>
            <a:ext cx="2090880" cy="139068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8"/>
          <p:cNvSpPr/>
          <p:nvPr/>
        </p:nvSpPr>
        <p:spPr>
          <a:xfrm rot="5400000">
            <a:off x="8099280" y="4772160"/>
            <a:ext cx="71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Source: Ukko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6:34:44Z</dcterms:created>
  <dc:creator>d1224</dc:creator>
  <dc:description/>
  <dc:language>en-US</dc:language>
  <cp:lastModifiedBy>Ibama</cp:lastModifiedBy>
  <cp:lastPrinted>2004-05-03T19:40:53Z</cp:lastPrinted>
  <dcterms:modified xsi:type="dcterms:W3CDTF">2018-08-16T17:22:06Z</dcterms:modified>
  <cp:revision>105</cp:revision>
  <dc:subject/>
  <dc:title>Folie 1</dc:title>
</cp:coreProperties>
</file>